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gif" ContentType="image/gif"/>
  <Override PartName="/ppt/media/image10.jpeg" ContentType="image/jpeg"/>
  <Override PartName="/ppt/media/image11.gif" ContentType="image/gif"/>
  <Override PartName="/ppt/media/start.wav" ContentType="audio/x-wav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E41F-7802-4EB7-9D4B-FDAA98E892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605F8-6AAC-4EEF-8FE7-6B83B460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ADE3C3-CAC2-441F-A9EE-2810B131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909F96-C8D0-4780-9696-4521A7DC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2A87DF-3676-4ADC-8B7B-02205E7C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F79B9C-8C7B-46A7-BA0B-94F60331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B0F183-2175-4A62-8050-77F37BAF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2CA579-B83D-4A0D-9F7D-527F0553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A288A8-D232-47DF-9112-2BD9CB41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18872E-7EB1-4B43-BA71-7847320E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216165-A433-48BC-89BD-8BF27981E3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E1F07-0A91-46A8-9B57-205A634C97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19C1-A4FC-475B-8223-1F2B1040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22725-EF49-46E1-802A-C568A662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1BF2F-9FB5-4E2A-A410-27BB3D59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275C7-DDA0-426F-AA7A-82460AA0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86CA4-8A98-47AD-9D0B-92700133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72F12-FAA6-4867-9266-F60BF320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AD2E8-5DED-4D54-BB44-9FC163E9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EAA35-4BDF-4FD5-8969-BD2E62B4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250A1-373F-4C3B-A886-F58D45D0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941FF-3521-411D-99B8-C235CABA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24321-83A2-47B2-9F6D-1D8582CA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4D27-3487-459E-906F-0CB747A8D1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35BB0-563C-4F77-9057-9CB8E6592E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0EC52F-9F75-4839-A728-B464FFB963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4E3AE8-67D1-4ABA-AEDD-2789B4EA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4C850A-39CB-40DE-9CEE-A28D42C1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A69325-EC94-4924-A870-E332FA3A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346C47-BBB9-4637-9398-94FDD8A4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8F658D-94AC-4D26-8582-400CC683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E71F48-0EB8-4C95-8964-8BF8C559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9981F0-8684-4C31-AA51-768ECCB4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981E21-C339-4C58-BA99-8B43BC4E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7ED69-67C9-49BB-BAD6-A468E71BA2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401213-AD8E-4B82-A732-76C5696F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35FA0F-935E-49B2-8F27-A4797602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F65E12-F732-4D43-A5F7-B2BCEAC12D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FE9DA-1769-458A-9266-E2FFF5218F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266F06-7FB1-4FEF-831A-2382EDDB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5F801-AD3C-4013-B69F-BD1BAEED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E6DCF-DD03-4481-8585-8489533C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DF442-B01E-4B14-ABAA-DB6FC89A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683C8C-88BB-467E-82F8-B81D4B3A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74A1E-630E-4DE9-AED0-14D9A409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3EE83-15AE-4564-8674-CB72CCE2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81ACB-0077-4072-83C5-D3B1D78D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4B86A-3C19-44E9-BF5D-37A65842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408AA-255C-415B-AA60-23796F87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86DC0-75B3-4058-A299-6A79D35C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035D6A-78B1-48F6-88F1-BD71EF3C09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7378D-FCEB-40F1-B2A1-87101FC4C1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26BC3-07A4-4555-88FC-1148F68A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423A5-F954-462A-B97B-66C1E875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C6A9D-2CAD-49A5-A86C-707569EB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CCC02-2AEB-4F96-B3BA-593595C2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8E71E-20A6-4548-ACE7-A67C66A8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F5F37-CCF7-41EF-AB94-A70855EE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A70A9-C754-4396-AF38-96231A4D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22DAA-E078-4081-86A3-B8D6AF3A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3730D-E442-4386-9907-6F11C3D3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32A0C-0CCB-46DC-B9BF-D02FEDAA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63281-2E26-44B7-A085-73F312C2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FE826-FBDE-4C2F-9865-B4C8068D0E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87FBA5-ACA5-476A-97C8-324660E47E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691625-A53B-408A-93A0-984D5DEF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5619B4-20FE-4C32-9A36-04699BDD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AC09F-DEAD-463E-9A8F-3E559CB7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8CAE4D-3017-4696-AD12-8EA2BF6B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23F87B-9418-4612-B2D0-24FC733B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E9CFDB-4810-4F4A-BEE4-6E45CF89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EC08FF-88DE-4E49-B0C8-6E620DA3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B85152-EE68-47D9-9ABF-D5AA40F9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49B70A-F9BA-4264-900B-B434D222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859FAD-3D1B-4432-989C-E6FF078F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628509-0B3D-4A8D-9551-7A8A6BED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B99E8A-67E4-4665-8B9D-762B8EEAA8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D35653-2EDE-4B29-9981-E8FF1E68B3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15111-A6CE-4BD2-9C5D-512E9390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C7A422-2D9C-4F81-B9BE-518F8D74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4B6E6E-2F85-4BC5-AD0F-54CDAF42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D8BC65-A726-4F2D-8030-E18A407E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4EB7DD-9F03-4285-82A0-B23A506B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51914C-F929-4616-A6AF-A467BF3F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ACBE88-6F60-4EAC-BEEE-DD4B6653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20212E-198B-4CB5-AE31-E465B549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458965-9290-4244-A5EB-4F8BF933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9DBE34-F76D-45C6-80C6-6D09DDEB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02F4AE-2D51-4976-8ED9-7C27D857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1E7A6-5B00-4E07-BEB0-EEB2C139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1181D7-AE04-4FC9-B3D0-BA7E5A5D6F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3F1E1-6D90-4A6B-9693-4FAC4439FB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430E9-DAE8-44E5-8272-C558A37C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5D31C-E0A8-46AF-8193-60B6A9DC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DEE99-31C3-49C9-B90F-001A7381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E2E04-B4E8-433D-B1DF-0570C17F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D5EA1-D438-4AD2-A66D-BE51BC00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FF923-ED79-4E3A-90E1-D79CE5EB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027B7-D6E6-4AE3-AF89-0D4ABE0C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0DE9B-7ECD-4231-84CC-6B777570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0198F-0A05-4F7D-BD31-EF81AD21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D4726-CF15-4241-9477-AF69F1CE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F84E4-0FB6-4206-BF22-1BF62C4F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D8508-2288-4DC7-8065-A958E798C4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FCA0FA-095A-4CC6-BC49-B08C74631D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D124CB-D33F-4393-B26F-D35F322C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045742-1151-4F12-A84B-A231CC39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1B45A9-8231-4A16-B0FC-AE923BD6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EB7904-202B-4EB0-9994-5E559911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21146B-A031-4329-92C8-5B1CD095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AC8653-8F18-4A23-AB6F-80E6BD3C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C7A05-1898-4029-8C9C-7A1C7E74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5FE53-FBF7-40CB-B149-74DE2F2E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4AB16D-23D4-48FF-8544-39ABEBCE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2C51A0-F076-4AFA-B579-4828BBC2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50A06F-BF32-45AD-B4EC-DD9BED89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D2986B-B06C-4021-B54B-75854791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D383BA-AA37-4D17-AC17-47728FED26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31D8E4-8063-4F7C-8C94-B21DB67BF5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447D12-8FDA-479E-9506-C747A3EC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FB7C43-C2B9-4410-A8B3-D794A213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CEC041-C1C2-4B87-9BFE-385AAF9C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952790-EA62-4025-AB12-8B04A697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21D5A-139A-400F-B5DE-830126A5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4FA530-B6DD-4232-876C-96FC67FA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A55304-81A1-4E3B-AD0F-27E09FF5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A08B69-185D-4A46-8640-96CFD742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A254EA-C92C-47E0-8CA0-EC2B644A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BC7508-55FB-458C-AAA3-E259C95D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70AB1D-67BA-4D77-8B5B-0DB58BFB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0301E9-FC97-43CB-B1F0-7A2653B42B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A90BB-EF36-42F2-AEA8-099D195593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88E3A-113A-4628-8F3E-CEE5CF8B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DEAB93-D03F-4A15-82A5-8E5014E9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0E083-0EE9-4A33-ACFA-731C9A8F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CB713-B2E2-4BDF-8DEC-842710CD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A4B2C-BD09-4B93-A045-FF1947ED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33EAA-25DE-4DFA-A19B-21E83C3B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93EBC-F53F-47F0-AE88-28CC8619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8EBDE0-9843-47E6-8DBB-521080A5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40F30D-F755-465A-BADC-BDD02989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F9444-89C1-4A86-83BE-F9968742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BF139-EDBA-4A9F-A109-E16EB430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49A21-3A73-4206-8A88-C87DD1C364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506B0A-5D84-44F1-A87A-B2A0A30C30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1E8C3-B73C-41A9-8045-00D8583C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FA9151-2CD0-455D-B2C5-5BE8395E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C1D3A6-0FC8-4F0B-84E8-8A2D0B6A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55C6BD-A0A2-49BC-9F03-8C220E53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3C0ACD-AE77-4A10-A199-1F14B4EB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B2D287-6634-40DC-9C66-50EF4A8C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7FA11C-D957-49D6-9F91-0E49A002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D4C1C0-918A-42FD-ACEA-583610A7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9E193C-B80A-4C99-AD20-9135F5D7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AC424E-8D4B-409C-814B-5AB401E3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840AA6-E3D5-46E6-93D7-B72C318C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7666B-B6F4-4013-828C-62C28444A2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F96D6C-97A4-4737-8455-9FB5576A5F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CB74921-A3B5-4152-8273-F684F6E15D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244576F-E5AA-429C-8C7C-5B44C52F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1D7EBBB-8498-44EA-9B93-19FBB215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A5F36B7-1D09-47FE-8875-8DFF3939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20C8FFE-2D1A-4C9E-B140-E605F914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2A8B7A0-7130-4AAD-A401-05E74E5D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B5A2A0B-842D-4519-8D76-1AEEDA08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6F56549-D6C6-426C-8C0C-AA8CD380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5A25F4A-7984-40C3-8760-D418C1F3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C8B497-9624-4871-B706-1DAD3EF2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F44B37B-E4D2-4DCF-B6F5-7587D4C3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33ACBE-16D7-44FE-BFC0-D9436634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9A560A2-A936-459F-8020-5C6613446A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4C2E44-9171-456B-B486-EF77EDB074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7988C8-AF8C-4A22-896A-0149A82C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C59B5-A58D-484E-A68D-0130B263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31275D-A1C0-4982-911B-3D901430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ABFA84-E435-458B-956A-8BBC015A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4DBFF8-56BA-4019-AA14-93C79B7B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3B152-D58C-4AB2-BA4D-4A31A4A3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4FACD4-29A2-4879-AB2B-5B87A567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86A34A-E5A9-411A-8D0D-EF7E2B96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8EB2E7-0170-4947-A48A-9352B114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359501-3183-4CFA-8098-46888715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009FC-DD81-49B6-BCD3-05F3C6DB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8C4930-B7BF-4932-8EA9-E6D1032865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E2587A-F717-4416-8CAF-631A837E53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830004F-8792-4502-A34F-015648FE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414342-8FB6-414E-8C55-1B16288D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A54EB68-B0FE-4130-B38C-787AEF10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412721-5E06-47E1-A1AA-FB4BF098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406862-6FCD-4F6D-8BDB-0A01C881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3EC1D62-B8A9-4208-81AA-301CB46B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EF5D91-2B9E-44C9-AE96-732189A4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455DB78-0C42-46B9-87C6-2A0B7D74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23F3DFD-78B8-44B6-8A9E-781D39DD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EF05901-6D1C-4931-8CDA-CB867BF5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8E31ED2-32A2-472B-9452-B6B6CE03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BBFBA1-DB5E-4772-A807-3ED3B1C3A1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DF67167-D24E-43C2-90C0-B77DD3579C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2B7628B-10E4-47A2-AB41-19BBE0E4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AD894A5-DC7A-438D-ADED-95E379D0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49DA4F-9355-4EA5-8049-908710CB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9906112-8463-4106-B3A0-B4D159D1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C189C8D-19E2-4DA8-AE98-83C8F879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6CA8278-7350-48E9-A467-65013378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8711E85-6923-4C95-AFD8-33816325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1215CA3-0EA2-4200-8773-45681922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88AD3DC-0D89-4586-9232-37BA25D1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8966DA8-4DC7-4247-8D1C-2C345CB2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B8B4592-F193-433F-B5AB-D13E12E0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91BE96F-0096-48B8-AC22-7889C9F214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C09F9A-DD5F-4BE5-9B50-B17BCBD904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159B81-08F3-4B6E-AE4E-C20134EC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DFB591-8394-445D-9DE3-ACDA0BDD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347149-9FA5-4A93-A661-C9DBBDE1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9566CF-1B39-4877-A86F-4D8A5649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E91E0E-44C2-4ABA-994D-BAE64EC1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483342-1C57-465E-952F-66ABD844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A4E702-0618-4A73-BD8C-609DE411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16C407-C144-4A55-9408-E7E376E2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69FE7D-BAA7-4811-8802-E51F064B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9807B4-0BB3-4871-999F-BF64F573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0FA096-F94C-4B1E-AEE2-C2A12287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2C970-B8F7-4A21-BBE1-3619110E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0853C4-CE7A-423B-960A-C12C7786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FE8A0B-5623-4561-8777-9E25A1395C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EBEB8F-46ED-4412-956C-E4129EF6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18B5B2-ADA0-4FA7-B483-93ECA4BA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AC33DF-02CB-4BD6-B33A-DD67318B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4DFC73-6C38-44CB-BB23-E9DCBB10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8DB307-6179-4577-8A69-DC4A52BA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A1BC00-5858-4808-B8C9-2B3B61A0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AB8F79-91B6-415F-9353-61FBEE5F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74345C-3B30-4115-8707-F9C069CC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350D9D-46B3-4E74-B00B-B141F76A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916B6B-5564-4D3B-8C85-797A2F0C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632797-3014-469F-8FB7-9BED258D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60BEFC-0F36-43FC-A6BE-468D42D9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ACC3A1-7CEE-4093-8CDC-ECA5BFE6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F89ABA-3D81-4ED0-93FF-82A13050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57CD7-0437-4048-AF41-52DA9C34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3334D9-9993-4745-9C9E-3E6CB0F9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87405F-1996-4B5F-B1C7-B9B74152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22144C-63FC-4C71-A655-D642612C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287F29-7EA7-45E5-8960-157BE539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87A41F-0770-42E8-803D-53305585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73A226-FCF7-4FE6-ABA9-D9E92E63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7571C5-5C7B-4F7D-8ACB-D1633C8A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D49EBB-5D9C-4BAB-BAF9-BAF19F25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CC9EC4-7487-49ED-A53C-BCB03874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D8AF7E-8603-4F0E-BD63-530248DB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EED784-FC96-42FD-A166-F7DF7017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EECEA7-D17F-44C0-8919-ACAFDE8F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A35B85-FC69-4F75-A860-15F770EF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744E2E-C38C-438C-826C-637FD615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100DB6-4307-4B36-A262-59F54641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98B451-9276-45B5-A6E1-491E76C9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7A23C7-6271-4C70-9C5E-C096837A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1C5824-CC55-47B4-9371-91EEF98A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04E8AB-F922-455D-8DF1-7830D44B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098D30-717A-40BE-8344-30BACB4F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8DE763-4C71-4106-8E9F-BDB3FC81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CC6CD8-6896-435D-B40C-90B059E4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C6E216-9FFC-4143-B3CD-6FA4831F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D7B7A7-0D7D-48EC-9941-6AEE6763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00702A-D3B6-4A90-916B-43F093F7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613AD9-11EF-44D3-BD10-796C60CB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4E2B9A-53D2-466D-A47E-4F8CFC89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CD1F3D-4228-4D73-8109-38FB7141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940B65-49D8-4836-BB95-502DC308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6B6DED-5C9F-4337-B187-C811A17D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E788CB-EE29-4ACA-AE87-5E7C7C71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C04A99-FF5C-4B58-94A4-19DAC920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123082-63FA-46EC-9B23-885A9CC2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659D8B-3D6F-4501-882A-104C5674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7482B8-2B1B-4711-BE72-17B9FA6A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BD342F-B735-4554-8878-093342E7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AAF09A-358D-40AD-8D2E-4C586AE2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20605A-6399-4C37-BAE9-1DE40E23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3A4B2E-40E7-425F-B159-A903EC19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4CFECF-748E-498C-A69C-A638A506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546DE2-6F5F-4AE3-9701-59F4BE35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CA29EA-5F3E-46F9-834A-4AFD19B3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A5054E-D171-4FFE-BA00-981156A9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D8B0B8-A44E-4774-935C-3DC7C751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7554C6-1FC7-42B0-8E98-09CD6A55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908E70-584F-4BF4-836C-87D872E1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D18610-CCD4-4930-85C2-140E71D6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4E79FA-DBFA-4BAD-A62A-BF3CCE75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26347B-6775-4255-AEC4-1C9C3F60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5D9BE4-DB04-4CAE-8BB4-94F801FF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AC97F2-A785-4BAD-9248-FB52C099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86EEAC-7934-4E76-A80E-5B8ADBDF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2C71E5-5CF0-4B0A-9EAC-20A29961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CA098F-2FAF-4AC3-B4C9-D4B7898B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0E5D3B-D0E6-4C90-AD89-B4D7FF18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FDA70E-2F40-4D5C-9F87-CDB1524B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48E821-454A-44CA-AF7D-3F727367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066C93-B681-4AA4-A172-99FBB553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D56B7B-0165-4D94-9032-D4C078B8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2DBB51-02EF-4B5B-A1EA-C8EE0966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D79BE-D70C-464B-92D2-6062E93138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F160C7-733D-4ED5-96CC-79A10908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1AD965-3CE6-47C3-B8C6-3D2306F7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BF3B2C-1247-42D6-8D5D-1FF141E3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0FB4C5-C429-4F13-A820-15F1A495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DF430F-39D8-46B9-A764-D550D560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4ECFF5-C2EB-4F0E-928E-695BF51B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C91A48-0CAE-46D4-A582-FAFC3F9F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967A05-A5BB-4BE4-899C-780CBC6E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A19807-0ABE-4D66-92AE-37219F7E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9E6B52-D33E-4F1B-AE05-C4DC479A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119FB-00FC-4D09-B714-A6E28455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121B37-DE89-4981-9C29-CCF32FC4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6F3D4D-E8D7-4EDE-A2BF-14132E35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7957D4-6513-4962-89BD-E961FD43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E651CF-8938-4913-8D0D-20D64784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6959C4-10E4-4C32-AD96-4567B026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E74A83-0718-4C7B-B7FF-E86946B0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4B6A1C-E5D8-4AF4-A8C4-7BF67AC0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DA4005-2883-4F79-BB61-5A197737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28CB27-CCF6-49F9-B310-6923EBDF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183333-BE0A-4986-83F5-420E0E8D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CC401-AF82-49A2-8266-B1AD9336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B14DD5-1004-47D9-98B0-0C9BFECB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707537-934E-459E-AC87-0AE2423A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24DFD7-DD2E-4866-85CF-EDCD9ACE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52E151-BAEC-42A1-9158-8F3346CD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3A0353-BC96-4548-A1ED-0C5F9BCD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976B84-06B8-411F-972E-616AA4A8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CE574E-437D-4405-B6DE-935FF8BD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423FD2-48CC-4D23-8D19-3E5BDB35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B48B31-3507-4287-80AA-9D438FBD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15A8D4-F665-4AB9-BA03-BDC1B854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882BE-6A9F-4D57-97A7-8F338649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B3FB7-0178-4930-9BF7-F2958A97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18D5AB-7E04-41AA-A17E-708CEF91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68E71E-13B1-4E56-BB8F-728126D2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6A90EC-C0B5-45E4-87E2-52E87CDA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07DA04-35D2-40F6-A7C1-F687C921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7CEB8B-3CE2-48FC-86EB-CFDAC565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201C40-1CE4-4128-91DF-417ADFA8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283DCC-6ACC-4172-9BD7-7B80C951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31D490-58E5-439F-8DAC-86AAD030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3EB686-F8CC-4437-8769-32923427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226751-2D8C-4D5A-A09B-FE47F0AB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7DD3-F2E9-4AAC-83EF-90220F38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B960AF-14F8-4B96-9BC4-977E1FB5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B949F9-5834-4ED2-BB87-685D2D38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E29396-92CB-4C95-B6EC-176CB0C2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401A52-80BC-4D98-BA34-877E1FA8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70636D-604E-468C-9A60-92BFD4AB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79C0A6-A434-4618-A8D9-B9EA1B7D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8B8B90-F7DA-4009-962D-34F82EAA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25395A-65AA-4B06-A0CB-6596786F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087F71-FEE5-482E-A8B5-615E1019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37F6AB-1B3C-4E8B-BD02-58F22FDF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CC867-7997-4122-BC0E-17D744C4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6C07D5-90CB-4B20-8904-AEA54EE2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28F4A0-3BE0-4CC0-8DA0-88AC0629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ADBC61-29D1-405A-8263-CED130DA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21671E-3DF8-4E75-8F5C-350B4BE8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7A205F-CC16-425F-A653-72015A77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30AE3C-5FFF-4466-B913-3F260320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BA8755-5FFE-493C-ADD0-DD350C7F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E99A09-C8F2-4A81-A650-AF51A86A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1A022A-7859-42AC-A5CD-6FA7F2BB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DA08F3-C740-42A3-813B-78CDCCFA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0942C-75F0-4917-8C2F-3F261B9D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20D801-DA50-4C84-A751-C5EE48CE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3A345F-BF42-4C20-8A01-BBBFEC8E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FD0FE2-3AA2-401B-8E79-1E3B5F48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54B05-80DD-46D8-8461-D1F8E702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AE7D-9882-41F4-9166-AD06F5D0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4A838-8BDA-4475-9E63-BE51AF5A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41C74-DEC7-41C6-8F3D-7742874D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5722E-B804-41DF-AEB1-D11FF81E63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0218E9-FF5C-47C3-A1E0-5C26296B72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1710-67CD-47FF-AA6E-ACDBD397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F8D447-4BBE-4EFA-9DD0-64EAF962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2F913C-5496-4309-B784-C119F005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5D893F-536E-45AF-A87A-8505B628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FCE7C8-3EA0-42DF-A640-955E5C7E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9A8925-4152-4F8E-BDC5-6D66E679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7F6BD1-AC22-4A7A-800F-BEBAAB97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7B220-5CED-47B9-8287-3A5DC5F3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88F166-623C-4606-9C77-7C3CF05A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F2973D-8395-4A69-9BDB-F235EEFC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2ED74D-AD82-4698-850C-474C46E4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46621-2ECC-4355-9F46-5784F69D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3A4C42-399E-4327-9D35-61DA56D97A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ADDAB9-EACA-4EA2-9339-2F1E92537E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0033CE-164B-4F84-A353-E59285A4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E00B1C-86C4-4DCE-B845-4B374CD4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59B544-7DC9-4CC1-A1A5-5AF6A264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CC8295-F6AE-4B46-9234-CE97DDDD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716378-DCCF-4EFF-B382-BD524AFB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BEC335-44CA-438A-A40E-FFF9E9B8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F1CC87-9236-4E5C-AC91-79543204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4575FB-A4BD-4C97-B1EA-9267F826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B9512-DB35-431F-AC54-B68E42CA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A7608F-EB47-403C-BE5A-FDCF70B5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3807BE-9156-464D-AAC5-1A85C658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72546E-87F3-4AE8-B049-D0493B234C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108B2-9452-43F8-BEF7-CE0606284F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89C13-7D97-4770-B6FF-E7A3F8FD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5E35F-A7C3-489F-8B4C-9BBA34D2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9D58E-4D07-4415-84B0-77E9F228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C5226-A0E2-4CCE-918C-5F703878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B72C9-F3F1-4171-9E2A-875457FD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E562E-AD84-439D-9B4F-F8B66D59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F2AE3-7CE1-4324-8476-A8DCACF0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BD793-3BDF-4626-8403-095A6533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E7820-F1D4-41A0-9206-3D31392A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5CDA3-3914-4790-B84F-34F4A370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07E08-79C9-400F-90A5-143F979D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97601-DEFA-416D-A729-45237FB4EE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F47388-DC25-47C0-AA00-3CB6E8B288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1FAC7-8B40-4472-A386-B96680E3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4E8C5F-4B66-42E3-B8B9-DB2D3CDB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9F19D-A124-46EF-9B0E-540A2F98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62518C-F205-43F5-B85E-25F886F9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791D2-BD09-4782-8D91-24409C26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277FCA-4B2B-462B-9E63-D3117B90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ACAAD9-F8A1-42A4-BEA3-9F3BBF92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E55D4-A880-4348-9A6C-E95B6A2E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4C1F1-447C-4CEA-99B4-3F82994D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29465-CD23-4AF1-A9AA-83929AA5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7E8412-A08B-4940-93BE-C96ACEB4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6B8931-E05E-46F2-830F-AF5D02C4F7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DFCCD6-C87B-4D2D-8483-C69CA1E67D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BD8194-D46C-4945-B0C2-885B297B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EC2FFB-2942-4FBB-9085-DBC0FC35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276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277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277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277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277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277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277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2DC4-9717-4E2E-A9F2-BC285016A4C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D2AB-C238-4724-AB8E-527ED517302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3844-272D-4E92-AE33-85D8997E5E7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EC57-E289-4E7D-9A51-65EA8723EAB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610E-B507-4F2C-858D-1D6643DF0CB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2EBC-09CA-44E2-B437-0009DF981A6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03F4-A23D-4730-B686-0740CD737F5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24CE-D9CD-4848-AA8E-3EC12172095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E615-284E-46BB-B5D6-607C84C6329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C5D6-810F-4367-BED4-C57AE431E8D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7FBE-0CB7-4876-A603-24AEAEFC142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4E0C-4696-45CA-84CC-985D5AEE963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3865-8B3C-4A61-B345-0FD5926FE6C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3DDF-5F16-447C-A190-7E500CCBE12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7F5B-0CCE-4B13-A8B8-B00950A03D3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1EA0-6E9F-459A-9727-3A307509FEC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30B0-5A67-41F4-AA51-D0BB54B7988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441E-C23A-47D4-93A7-D65778F1BA7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4EE3-CC75-4643-A103-E13FEDFA8C5A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51D3-DA96-4512-84EA-128524A3352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6C2C-09B9-4E93-A50E-BC1E32836B37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23A2-08C1-40F2-AC66-6DC743F2ED5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5043-76B0-4F3B-B78B-336559CED90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8D63-1B22-4050-93BB-D7432C58BF9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EC51-481D-4786-88EC-B7357ED8C81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5F68-77A6-4B3C-ADF0-1177A7F1899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BE8A-4648-4115-B854-E17176A705F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328F-6010-4A00-9FC8-16051830F3E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AECD-B7B4-4B37-90B9-4648A527753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CC46-CB91-4E8C-BD79-1DF2669C81E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379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379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379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379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379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379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379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4D8C-5FD7-4EFC-B83E-152BC310502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655E-9680-47C3-9359-8AD8A17913E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EA5A-54AD-4B49-A347-39FE4266E1D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0FD2-308D-44E2-91A9-F4E1BBC38C3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48D9-0B28-44A5-AAF7-93125DD76C1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2BC2-8902-4030-AF6B-389C16341E6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8673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8674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763640" y="692280"/>
            <a:ext cx="5283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比</a:t>
            </a:r>
            <a:endParaRPr b="0" i="1" lang="en-US" sz="4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83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1"/>
          <a:stretch/>
        </p:blipFill>
        <p:spPr>
          <a:xfrm>
            <a:off x="755640" y="62064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484" name="TextBox 3"/>
          <p:cNvSpPr/>
          <p:nvPr/>
        </p:nvSpPr>
        <p:spPr>
          <a:xfrm>
            <a:off x="1116000" y="198612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按比分配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2"/>
          <p:cNvSpPr/>
          <p:nvPr/>
        </p:nvSpPr>
        <p:spPr>
          <a:xfrm>
            <a:off x="779400" y="1413000"/>
            <a:ext cx="7416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学校把栽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棵树的任务，按照六年级三个班的人数分配给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各班。一班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6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人，二班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人，三班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人。三个班各应栽树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多少棵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巩固应用，拓展思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文本框 27651"/>
          <p:cNvSpPr/>
          <p:nvPr/>
        </p:nvSpPr>
        <p:spPr>
          <a:xfrm>
            <a:off x="1312920" y="2543040"/>
            <a:ext cx="2519280" cy="536004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方法一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6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︰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4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︰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5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3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︰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2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︰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5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3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＋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70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70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÷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7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棵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班：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3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3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棵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二班：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棵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班：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棵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97" name="组合 27652"/>
          <p:cNvGrpSpPr/>
          <p:nvPr/>
        </p:nvGrpSpPr>
        <p:grpSpPr>
          <a:xfrm>
            <a:off x="1316160" y="4610160"/>
            <a:ext cx="3240000" cy="6347160"/>
            <a:chOff x="1316160" y="4610160"/>
            <a:chExt cx="3240000" cy="6347160"/>
          </a:xfrm>
        </p:grpSpPr>
        <p:sp>
          <p:nvSpPr>
            <p:cNvPr id="1598" name="文本框 27653"/>
            <p:cNvSpPr/>
            <p:nvPr/>
          </p:nvSpPr>
          <p:spPr>
            <a:xfrm>
              <a:off x="1316160" y="4610160"/>
              <a:ext cx="3240000" cy="634716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方法二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6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︰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4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︰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0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3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︰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2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︰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5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一班：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0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3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棵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二班：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0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2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棵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三班：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0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5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棵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99" name="组合 27654"/>
            <p:cNvGrpSpPr/>
            <p:nvPr/>
          </p:nvGrpSpPr>
          <p:grpSpPr>
            <a:xfrm>
              <a:off x="2244600" y="5408640"/>
              <a:ext cx="1547640" cy="1227240"/>
              <a:chOff x="2244600" y="5408640"/>
              <a:chExt cx="1547640" cy="1227240"/>
            </a:xfrm>
          </p:grpSpPr>
          <p:sp>
            <p:nvSpPr>
              <p:cNvPr id="1600" name="文本框 27655"/>
              <p:cNvSpPr/>
              <p:nvPr/>
            </p:nvSpPr>
            <p:spPr>
              <a:xfrm>
                <a:off x="2244600" y="5664240"/>
                <a:ext cx="154764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3</a:t>
                </a: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＋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2</a:t>
                </a: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＋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5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1" name="文本框 27656"/>
              <p:cNvSpPr/>
              <p:nvPr/>
            </p:nvSpPr>
            <p:spPr>
              <a:xfrm>
                <a:off x="2619000" y="5408640"/>
                <a:ext cx="647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3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2" name="直接连接符 27657"/>
              <p:cNvSpPr/>
              <p:nvPr/>
            </p:nvSpPr>
            <p:spPr>
              <a:xfrm>
                <a:off x="2341440" y="5727600"/>
                <a:ext cx="94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03" name="组合 27658"/>
            <p:cNvGrpSpPr/>
            <p:nvPr/>
          </p:nvGrpSpPr>
          <p:grpSpPr>
            <a:xfrm>
              <a:off x="2254320" y="5816880"/>
              <a:ext cx="1547640" cy="1226880"/>
              <a:chOff x="2254320" y="5816880"/>
              <a:chExt cx="1547640" cy="1226880"/>
            </a:xfrm>
          </p:grpSpPr>
          <p:sp>
            <p:nvSpPr>
              <p:cNvPr id="1604" name="文本框 27659"/>
              <p:cNvSpPr/>
              <p:nvPr/>
            </p:nvSpPr>
            <p:spPr>
              <a:xfrm>
                <a:off x="2254320" y="6072120"/>
                <a:ext cx="154764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3</a:t>
                </a: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＋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2</a:t>
                </a: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＋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5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5" name="文本框 27660"/>
              <p:cNvSpPr/>
              <p:nvPr/>
            </p:nvSpPr>
            <p:spPr>
              <a:xfrm>
                <a:off x="2628720" y="5816880"/>
                <a:ext cx="647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2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6" name="直接连接符 27661"/>
              <p:cNvSpPr/>
              <p:nvPr/>
            </p:nvSpPr>
            <p:spPr>
              <a:xfrm>
                <a:off x="2351160" y="6135480"/>
                <a:ext cx="94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07" name="组合 27662"/>
            <p:cNvGrpSpPr/>
            <p:nvPr/>
          </p:nvGrpSpPr>
          <p:grpSpPr>
            <a:xfrm>
              <a:off x="2239920" y="6216840"/>
              <a:ext cx="1547640" cy="1226880"/>
              <a:chOff x="2239920" y="6216840"/>
              <a:chExt cx="1547640" cy="1226880"/>
            </a:xfrm>
          </p:grpSpPr>
          <p:sp>
            <p:nvSpPr>
              <p:cNvPr id="1608" name="文本框 27663"/>
              <p:cNvSpPr/>
              <p:nvPr/>
            </p:nvSpPr>
            <p:spPr>
              <a:xfrm>
                <a:off x="2239920" y="6472080"/>
                <a:ext cx="154764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3</a:t>
                </a: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＋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2</a:t>
                </a: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＋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5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9" name="文本框 27664"/>
              <p:cNvSpPr/>
              <p:nvPr/>
            </p:nvSpPr>
            <p:spPr>
              <a:xfrm>
                <a:off x="2614320" y="6216840"/>
                <a:ext cx="647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5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0" name="直接连接符 27665"/>
              <p:cNvSpPr/>
              <p:nvPr/>
            </p:nvSpPr>
            <p:spPr>
              <a:xfrm>
                <a:off x="2336760" y="6535440"/>
                <a:ext cx="94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11" name="组合 27666"/>
          <p:cNvGrpSpPr/>
          <p:nvPr/>
        </p:nvGrpSpPr>
        <p:grpSpPr>
          <a:xfrm>
            <a:off x="4892760" y="2492280"/>
            <a:ext cx="3240000" cy="5214600"/>
            <a:chOff x="4892760" y="2492280"/>
            <a:chExt cx="3240000" cy="5214600"/>
          </a:xfrm>
        </p:grpSpPr>
        <p:sp>
          <p:nvSpPr>
            <p:cNvPr id="1612" name="文本框 27667"/>
            <p:cNvSpPr/>
            <p:nvPr/>
          </p:nvSpPr>
          <p:spPr>
            <a:xfrm>
              <a:off x="4892760" y="2492280"/>
              <a:ext cx="3240000" cy="521460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方法三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一班：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0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3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棵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二班：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0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2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棵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三班：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0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5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棵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13" name="组合 27668"/>
            <p:cNvGrpSpPr/>
            <p:nvPr/>
          </p:nvGrpSpPr>
          <p:grpSpPr>
            <a:xfrm>
              <a:off x="5821200" y="2925720"/>
              <a:ext cx="1547640" cy="1226880"/>
              <a:chOff x="5821200" y="2925720"/>
              <a:chExt cx="1547640" cy="1226880"/>
            </a:xfrm>
          </p:grpSpPr>
          <p:sp>
            <p:nvSpPr>
              <p:cNvPr id="1614" name="文本框 27669"/>
              <p:cNvSpPr/>
              <p:nvPr/>
            </p:nvSpPr>
            <p:spPr>
              <a:xfrm>
                <a:off x="5821200" y="3180960"/>
                <a:ext cx="154764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6</a:t>
                </a: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＋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4</a:t>
                </a: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＋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0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5" name="文本框 27670"/>
              <p:cNvSpPr/>
              <p:nvPr/>
            </p:nvSpPr>
            <p:spPr>
              <a:xfrm>
                <a:off x="6195600" y="2925720"/>
                <a:ext cx="647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6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6" name="直接连接符 27671"/>
              <p:cNvSpPr/>
              <p:nvPr/>
            </p:nvSpPr>
            <p:spPr>
              <a:xfrm>
                <a:off x="5918040" y="3244320"/>
                <a:ext cx="94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17" name="组合 27672"/>
            <p:cNvGrpSpPr/>
            <p:nvPr/>
          </p:nvGrpSpPr>
          <p:grpSpPr>
            <a:xfrm>
              <a:off x="5830920" y="3341520"/>
              <a:ext cx="1547280" cy="1227240"/>
              <a:chOff x="5830920" y="3341520"/>
              <a:chExt cx="1547280" cy="1227240"/>
            </a:xfrm>
          </p:grpSpPr>
          <p:sp>
            <p:nvSpPr>
              <p:cNvPr id="1618" name="文本框 27673"/>
              <p:cNvSpPr/>
              <p:nvPr/>
            </p:nvSpPr>
            <p:spPr>
              <a:xfrm>
                <a:off x="5830920" y="3597120"/>
                <a:ext cx="154728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6</a:t>
                </a: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＋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4</a:t>
                </a: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＋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0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9" name="文本框 27674"/>
              <p:cNvSpPr/>
              <p:nvPr/>
            </p:nvSpPr>
            <p:spPr>
              <a:xfrm>
                <a:off x="6204960" y="3341520"/>
                <a:ext cx="64728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4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0" name="直接连接符 27675"/>
              <p:cNvSpPr/>
              <p:nvPr/>
            </p:nvSpPr>
            <p:spPr>
              <a:xfrm>
                <a:off x="5927400" y="3660480"/>
                <a:ext cx="943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21" name="组合 27676"/>
            <p:cNvGrpSpPr/>
            <p:nvPr/>
          </p:nvGrpSpPr>
          <p:grpSpPr>
            <a:xfrm>
              <a:off x="5816520" y="3767040"/>
              <a:ext cx="1547280" cy="1227240"/>
              <a:chOff x="5816520" y="3767040"/>
              <a:chExt cx="1547280" cy="1227240"/>
            </a:xfrm>
          </p:grpSpPr>
          <p:sp>
            <p:nvSpPr>
              <p:cNvPr id="1622" name="文本框 27677"/>
              <p:cNvSpPr/>
              <p:nvPr/>
            </p:nvSpPr>
            <p:spPr>
              <a:xfrm>
                <a:off x="5816520" y="4022640"/>
                <a:ext cx="154728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6</a:t>
                </a: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＋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4</a:t>
                </a: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＋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0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3" name="文本框 27678"/>
              <p:cNvSpPr/>
              <p:nvPr/>
            </p:nvSpPr>
            <p:spPr>
              <a:xfrm>
                <a:off x="6190560" y="3767040"/>
                <a:ext cx="64728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5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4" name="直接连接符 27679"/>
              <p:cNvSpPr/>
              <p:nvPr/>
            </p:nvSpPr>
            <p:spPr>
              <a:xfrm>
                <a:off x="5913000" y="4086000"/>
                <a:ext cx="943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25" name="文本框 27680"/>
          <p:cNvSpPr/>
          <p:nvPr/>
        </p:nvSpPr>
        <p:spPr>
          <a:xfrm>
            <a:off x="4902120" y="4581360"/>
            <a:ext cx="2519280" cy="448236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方法四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6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＋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4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5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4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人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40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÷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7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人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班：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6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÷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3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棵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二班：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4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÷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棵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班：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50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÷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棵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7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8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630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631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633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634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77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知识铺垫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2"/>
          <p:cNvSpPr/>
          <p:nvPr/>
        </p:nvSpPr>
        <p:spPr>
          <a:xfrm>
            <a:off x="611280" y="3573360"/>
            <a:ext cx="726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从这个信息中你能想到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7" name="Rectangle 2"/>
          <p:cNvSpPr/>
          <p:nvPr/>
        </p:nvSpPr>
        <p:spPr>
          <a:xfrm>
            <a:off x="1390680" y="4203720"/>
            <a:ext cx="72532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根据这个信息能确定这个兴趣小组男生和女生各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多少人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8" name="矩形 23"/>
          <p:cNvSpPr/>
          <p:nvPr/>
        </p:nvSpPr>
        <p:spPr>
          <a:xfrm>
            <a:off x="979560" y="2286000"/>
            <a:ext cx="7092720" cy="60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数学兴趣小组男生和女生的人数比是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5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︰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9" name="矩形 19461"/>
          <p:cNvSpPr/>
          <p:nvPr/>
        </p:nvSpPr>
        <p:spPr>
          <a:xfrm>
            <a:off x="414000" y="57340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0" name="矩形 19462"/>
          <p:cNvSpPr/>
          <p:nvPr/>
        </p:nvSpPr>
        <p:spPr>
          <a:xfrm>
            <a:off x="630000" y="59500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77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创设情境，导入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2"/>
          <p:cNvSpPr/>
          <p:nvPr/>
        </p:nvSpPr>
        <p:spPr>
          <a:xfrm>
            <a:off x="900000" y="4278240"/>
            <a:ext cx="57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什么是稀释液？什么是浓缩液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3" name="Rectangle 2"/>
          <p:cNvSpPr/>
          <p:nvPr/>
        </p:nvSpPr>
        <p:spPr>
          <a:xfrm>
            <a:off x="611280" y="1455840"/>
            <a:ext cx="51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创设情景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4" name="矩形 11"/>
          <p:cNvSpPr/>
          <p:nvPr/>
        </p:nvSpPr>
        <p:spPr>
          <a:xfrm>
            <a:off x="1679400" y="4753080"/>
            <a:ext cx="43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1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稀释液怎么配制呢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?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95" name="组合 20485"/>
          <p:cNvGrpSpPr/>
          <p:nvPr/>
        </p:nvGrpSpPr>
        <p:grpSpPr>
          <a:xfrm>
            <a:off x="1376280" y="1792440"/>
            <a:ext cx="5528880" cy="2210040"/>
            <a:chOff x="1376280" y="1792440"/>
            <a:chExt cx="5528880" cy="2210040"/>
          </a:xfrm>
        </p:grpSpPr>
        <p:sp>
          <p:nvSpPr>
            <p:cNvPr id="1496" name="矩形 20486"/>
            <p:cNvSpPr/>
            <p:nvPr/>
          </p:nvSpPr>
          <p:spPr>
            <a:xfrm>
              <a:off x="1376280" y="2079720"/>
              <a:ext cx="352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这是某种清洁剂浓缩液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的稀释瓶，瓶子上标明的比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表示浓缩液和水的体积之比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按照这些比，可以配制出不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同浓度的稀释液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497" name="组合 20487"/>
            <p:cNvGrpSpPr/>
            <p:nvPr/>
          </p:nvGrpSpPr>
          <p:grpSpPr>
            <a:xfrm>
              <a:off x="4924440" y="1792440"/>
              <a:ext cx="1980720" cy="2155680"/>
              <a:chOff x="4924440" y="1792440"/>
              <a:chExt cx="1980720" cy="2155680"/>
            </a:xfrm>
          </p:grpSpPr>
          <p:pic>
            <p:nvPicPr>
              <p:cNvPr id="1498" name="图片 20488" descr="46"/>
              <p:cNvPicPr/>
              <p:nvPr/>
            </p:nvPicPr>
            <p:blipFill>
              <a:blip r:embed="rId1"/>
              <a:stretch/>
            </p:blipFill>
            <p:spPr>
              <a:xfrm>
                <a:off x="4924440" y="1792440"/>
                <a:ext cx="1190160" cy="21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9" name="图片 20489" descr="47"/>
              <p:cNvPicPr/>
              <p:nvPr/>
            </p:nvPicPr>
            <p:blipFill>
              <a:blip r:embed="rId2"/>
              <a:stretch/>
            </p:blipFill>
            <p:spPr>
              <a:xfrm>
                <a:off x="6329160" y="2081160"/>
                <a:ext cx="576000" cy="1800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00" name="矩形 20490"/>
          <p:cNvSpPr/>
          <p:nvPr/>
        </p:nvSpPr>
        <p:spPr>
          <a:xfrm>
            <a:off x="414000" y="57340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1" name="矩形 20491"/>
          <p:cNvSpPr/>
          <p:nvPr/>
        </p:nvSpPr>
        <p:spPr>
          <a:xfrm>
            <a:off x="630000" y="59500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Rectangle 2"/>
          <p:cNvSpPr/>
          <p:nvPr/>
        </p:nvSpPr>
        <p:spPr>
          <a:xfrm>
            <a:off x="611280" y="1450800"/>
            <a:ext cx="51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阅读与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77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创设情境，导入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2"/>
          <p:cNvSpPr/>
          <p:nvPr/>
        </p:nvSpPr>
        <p:spPr>
          <a:xfrm>
            <a:off x="900000" y="4278240"/>
            <a:ext cx="655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题目中要分配什么？是按什么进行分配的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5" name="Rectangle 2"/>
          <p:cNvSpPr/>
          <p:nvPr/>
        </p:nvSpPr>
        <p:spPr>
          <a:xfrm>
            <a:off x="1706400" y="4724280"/>
            <a:ext cx="6250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50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L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是配好的稀释液的体积，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表示什么？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6" name="Rectangle 2"/>
          <p:cNvSpPr/>
          <p:nvPr/>
        </p:nvSpPr>
        <p:spPr>
          <a:xfrm>
            <a:off x="1692360" y="5157720"/>
            <a:ext cx="6249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要解决的问题是什么？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07" name="图片 21510" descr="48"/>
          <p:cNvPicPr/>
          <p:nvPr/>
        </p:nvPicPr>
        <p:blipFill>
          <a:blip r:embed="rId1"/>
          <a:stretch/>
        </p:blipFill>
        <p:spPr>
          <a:xfrm>
            <a:off x="2050920" y="1989000"/>
            <a:ext cx="3718080" cy="2160720"/>
          </a:xfrm>
          <a:prstGeom prst="rect">
            <a:avLst/>
          </a:prstGeom>
          <a:ln w="0">
            <a:noFill/>
          </a:ln>
        </p:spPr>
      </p:pic>
      <p:sp>
        <p:nvSpPr>
          <p:cNvPr id="1508" name="矩形 21511"/>
          <p:cNvSpPr/>
          <p:nvPr/>
        </p:nvSpPr>
        <p:spPr>
          <a:xfrm>
            <a:off x="414000" y="57340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9" name="矩形 21512"/>
          <p:cNvSpPr/>
          <p:nvPr/>
        </p:nvSpPr>
        <p:spPr>
          <a:xfrm>
            <a:off x="630000" y="59500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77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创设情境，导入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2"/>
          <p:cNvSpPr/>
          <p:nvPr/>
        </p:nvSpPr>
        <p:spPr>
          <a:xfrm>
            <a:off x="1046160" y="5661000"/>
            <a:ext cx="716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根据信息画出线段图；说一说线段图所表示的意思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2" name="Rectangle 2"/>
          <p:cNvSpPr/>
          <p:nvPr/>
        </p:nvSpPr>
        <p:spPr>
          <a:xfrm>
            <a:off x="611280" y="1465200"/>
            <a:ext cx="51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13" name="Object 9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14" name="Rectangle 2"/>
          <p:cNvSpPr/>
          <p:nvPr/>
        </p:nvSpPr>
        <p:spPr>
          <a:xfrm>
            <a:off x="1857240" y="6094440"/>
            <a:ext cx="2786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独立尝试解决问题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15" name="图片 22534" descr="48"/>
          <p:cNvPicPr/>
          <p:nvPr/>
        </p:nvPicPr>
        <p:blipFill>
          <a:blip r:embed="rId2"/>
          <a:stretch/>
        </p:blipFill>
        <p:spPr>
          <a:xfrm>
            <a:off x="2556000" y="2041560"/>
            <a:ext cx="3405240" cy="1977840"/>
          </a:xfrm>
          <a:prstGeom prst="rect">
            <a:avLst/>
          </a:prstGeom>
          <a:ln w="0">
            <a:noFill/>
          </a:ln>
        </p:spPr>
      </p:pic>
      <p:grpSp>
        <p:nvGrpSpPr>
          <p:cNvPr id="1516" name="组合 22535"/>
          <p:cNvGrpSpPr/>
          <p:nvPr/>
        </p:nvGrpSpPr>
        <p:grpSpPr>
          <a:xfrm>
            <a:off x="2301840" y="4043520"/>
            <a:ext cx="3651120" cy="1574640"/>
            <a:chOff x="2301840" y="4043520"/>
            <a:chExt cx="3651120" cy="1574640"/>
          </a:xfrm>
        </p:grpSpPr>
        <p:sp>
          <p:nvSpPr>
            <p:cNvPr id="1517" name="文本框 22536"/>
            <p:cNvSpPr/>
            <p:nvPr/>
          </p:nvSpPr>
          <p:spPr>
            <a:xfrm>
              <a:off x="3402000" y="4043520"/>
              <a:ext cx="17272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00</a:t>
              </a:r>
              <a:r>
                <a:rPr b="0" i="1" lang="zh-CN" sz="1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毫升稀释液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18" name="组合 22537"/>
            <p:cNvGrpSpPr/>
            <p:nvPr/>
          </p:nvGrpSpPr>
          <p:grpSpPr>
            <a:xfrm>
              <a:off x="2301840" y="4869000"/>
              <a:ext cx="863640" cy="704160"/>
              <a:chOff x="2301840" y="4869000"/>
              <a:chExt cx="863640" cy="704160"/>
            </a:xfrm>
          </p:grpSpPr>
          <p:sp>
            <p:nvSpPr>
              <p:cNvPr id="1519" name="左大括号 22538"/>
              <p:cNvSpPr/>
              <p:nvPr/>
            </p:nvSpPr>
            <p:spPr>
              <a:xfrm flipV="1" rot="16200000">
                <a:off x="2589840" y="4617000"/>
                <a:ext cx="215280" cy="718920"/>
              </a:xfrm>
              <a:custGeom>
                <a:avLst/>
                <a:gdLst>
                  <a:gd name="textAreaLeft" fmla="*/ 137520 w 215280"/>
                  <a:gd name="textAreaRight" fmla="*/ 215640 w 215280"/>
                  <a:gd name="textAreaTop" fmla="*/ 18720 h 718920"/>
                  <a:gd name="textAreaBottom" fmla="*/ 700200 h 71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0" name="文本框 22539"/>
              <p:cNvSpPr/>
              <p:nvPr/>
            </p:nvSpPr>
            <p:spPr>
              <a:xfrm>
                <a:off x="2301840" y="4992480"/>
                <a:ext cx="86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浓缩液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份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21" name="组合 22540"/>
            <p:cNvGrpSpPr/>
            <p:nvPr/>
          </p:nvGrpSpPr>
          <p:grpSpPr>
            <a:xfrm>
              <a:off x="2354400" y="4413240"/>
              <a:ext cx="3598560" cy="1204920"/>
              <a:chOff x="2354400" y="4413240"/>
              <a:chExt cx="3598560" cy="1204920"/>
            </a:xfrm>
          </p:grpSpPr>
          <p:grpSp>
            <p:nvGrpSpPr>
              <p:cNvPr id="1522" name="组合 22541"/>
              <p:cNvGrpSpPr/>
              <p:nvPr/>
            </p:nvGrpSpPr>
            <p:grpSpPr>
              <a:xfrm>
                <a:off x="2358720" y="4726800"/>
                <a:ext cx="3582360" cy="70920"/>
                <a:chOff x="2358720" y="4726800"/>
                <a:chExt cx="3582360" cy="70920"/>
              </a:xfrm>
            </p:grpSpPr>
            <p:grpSp>
              <p:nvGrpSpPr>
                <p:cNvPr id="1523" name="组合 22542"/>
                <p:cNvGrpSpPr/>
                <p:nvPr/>
              </p:nvGrpSpPr>
              <p:grpSpPr>
                <a:xfrm>
                  <a:off x="2358720" y="4726800"/>
                  <a:ext cx="718560" cy="70920"/>
                  <a:chOff x="2358720" y="4726800"/>
                  <a:chExt cx="718560" cy="70920"/>
                </a:xfrm>
              </p:grpSpPr>
              <p:sp>
                <p:nvSpPr>
                  <p:cNvPr id="1524" name="直接连接符 22543"/>
                  <p:cNvSpPr/>
                  <p:nvPr/>
                </p:nvSpPr>
                <p:spPr>
                  <a:xfrm>
                    <a:off x="2358720" y="4797720"/>
                    <a:ext cx="718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25" name="直接连接符 22544"/>
                  <p:cNvSpPr/>
                  <p:nvPr/>
                </p:nvSpPr>
                <p:spPr>
                  <a:xfrm>
                    <a:off x="2358720" y="4726800"/>
                    <a:ext cx="0" cy="7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26" name="组合 22545"/>
                <p:cNvGrpSpPr/>
                <p:nvPr/>
              </p:nvGrpSpPr>
              <p:grpSpPr>
                <a:xfrm>
                  <a:off x="3072600" y="4726800"/>
                  <a:ext cx="718920" cy="70920"/>
                  <a:chOff x="3072600" y="4726800"/>
                  <a:chExt cx="718920" cy="70920"/>
                </a:xfrm>
              </p:grpSpPr>
              <p:sp>
                <p:nvSpPr>
                  <p:cNvPr id="1527" name="直接连接符 22546"/>
                  <p:cNvSpPr/>
                  <p:nvPr/>
                </p:nvSpPr>
                <p:spPr>
                  <a:xfrm>
                    <a:off x="3072600" y="479772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28" name="直接连接符 22547"/>
                  <p:cNvSpPr/>
                  <p:nvPr/>
                </p:nvSpPr>
                <p:spPr>
                  <a:xfrm>
                    <a:off x="3072600" y="4726800"/>
                    <a:ext cx="0" cy="7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29" name="组合 22548"/>
                <p:cNvGrpSpPr/>
                <p:nvPr/>
              </p:nvGrpSpPr>
              <p:grpSpPr>
                <a:xfrm>
                  <a:off x="3787200" y="4726800"/>
                  <a:ext cx="718560" cy="70920"/>
                  <a:chOff x="3787200" y="4726800"/>
                  <a:chExt cx="718560" cy="70920"/>
                </a:xfrm>
              </p:grpSpPr>
              <p:sp>
                <p:nvSpPr>
                  <p:cNvPr id="1530" name="直接连接符 22549"/>
                  <p:cNvSpPr/>
                  <p:nvPr/>
                </p:nvSpPr>
                <p:spPr>
                  <a:xfrm>
                    <a:off x="3787200" y="4797720"/>
                    <a:ext cx="718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31" name="直接连接符 22550"/>
                  <p:cNvSpPr/>
                  <p:nvPr/>
                </p:nvSpPr>
                <p:spPr>
                  <a:xfrm>
                    <a:off x="3787200" y="4726800"/>
                    <a:ext cx="0" cy="7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32" name="组合 22551"/>
                <p:cNvGrpSpPr/>
                <p:nvPr/>
              </p:nvGrpSpPr>
              <p:grpSpPr>
                <a:xfrm>
                  <a:off x="4506120" y="4726800"/>
                  <a:ext cx="718920" cy="70920"/>
                  <a:chOff x="4506120" y="4726800"/>
                  <a:chExt cx="718920" cy="70920"/>
                </a:xfrm>
              </p:grpSpPr>
              <p:sp>
                <p:nvSpPr>
                  <p:cNvPr id="1533" name="直接连接符 22552"/>
                  <p:cNvSpPr/>
                  <p:nvPr/>
                </p:nvSpPr>
                <p:spPr>
                  <a:xfrm>
                    <a:off x="4506120" y="479772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34" name="直接连接符 22553"/>
                  <p:cNvSpPr/>
                  <p:nvPr/>
                </p:nvSpPr>
                <p:spPr>
                  <a:xfrm>
                    <a:off x="4506120" y="4726800"/>
                    <a:ext cx="0" cy="7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35" name="组合 22554"/>
                <p:cNvGrpSpPr/>
                <p:nvPr/>
              </p:nvGrpSpPr>
              <p:grpSpPr>
                <a:xfrm>
                  <a:off x="5222160" y="4726800"/>
                  <a:ext cx="718920" cy="70920"/>
                  <a:chOff x="5222160" y="4726800"/>
                  <a:chExt cx="718920" cy="70920"/>
                </a:xfrm>
              </p:grpSpPr>
              <p:sp>
                <p:nvSpPr>
                  <p:cNvPr id="1536" name="直接连接符 22555"/>
                  <p:cNvSpPr/>
                  <p:nvPr/>
                </p:nvSpPr>
                <p:spPr>
                  <a:xfrm>
                    <a:off x="5222160" y="479772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37" name="直接连接符 22556"/>
                  <p:cNvSpPr/>
                  <p:nvPr/>
                </p:nvSpPr>
                <p:spPr>
                  <a:xfrm>
                    <a:off x="5222160" y="4726800"/>
                    <a:ext cx="0" cy="7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538" name="直接连接符 22557"/>
                <p:cNvSpPr/>
                <p:nvPr/>
              </p:nvSpPr>
              <p:spPr>
                <a:xfrm>
                  <a:off x="5936400" y="4726800"/>
                  <a:ext cx="0" cy="70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539" name="左大括号 22558"/>
              <p:cNvSpPr/>
              <p:nvPr/>
            </p:nvSpPr>
            <p:spPr>
              <a:xfrm rot="5400000">
                <a:off x="4046040" y="2721240"/>
                <a:ext cx="215280" cy="3598560"/>
              </a:xfrm>
              <a:custGeom>
                <a:avLst/>
                <a:gdLst>
                  <a:gd name="textAreaLeft" fmla="*/ 137520 w 215280"/>
                  <a:gd name="textAreaRight" fmla="*/ 215640 w 215280"/>
                  <a:gd name="textAreaTop" fmla="*/ 93600 h 3598560"/>
                  <a:gd name="textAreaBottom" fmla="*/ 3504960 h 359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0" name="左大括号 22559"/>
              <p:cNvSpPr/>
              <p:nvPr/>
            </p:nvSpPr>
            <p:spPr>
              <a:xfrm flipV="1" rot="16200000">
                <a:off x="4394160" y="3553560"/>
                <a:ext cx="215280" cy="2879280"/>
              </a:xfrm>
              <a:custGeom>
                <a:avLst/>
                <a:gdLst>
                  <a:gd name="textAreaLeft" fmla="*/ 137520 w 215280"/>
                  <a:gd name="textAreaRight" fmla="*/ 215640 w 215280"/>
                  <a:gd name="textAreaTop" fmla="*/ 74880 h 2879280"/>
                  <a:gd name="textAreaBottom" fmla="*/ 2804400 h 287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1" name="文本框 22560"/>
              <p:cNvSpPr/>
              <p:nvPr/>
            </p:nvSpPr>
            <p:spPr>
              <a:xfrm>
                <a:off x="4079880" y="5037480"/>
                <a:ext cx="862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水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份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77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创设情境，导入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3" name="Object 9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44" name="Rectangle 2"/>
          <p:cNvSpPr/>
          <p:nvPr/>
        </p:nvSpPr>
        <p:spPr>
          <a:xfrm>
            <a:off x="804960" y="5110200"/>
            <a:ext cx="72864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反馈与交流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你知道方法一中每一步求的是什么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5" name="Rectangle 2"/>
          <p:cNvSpPr/>
          <p:nvPr/>
        </p:nvSpPr>
        <p:spPr>
          <a:xfrm>
            <a:off x="1689120" y="5675400"/>
            <a:ext cx="5643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你知道方法二中每一步求的是什么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6" name="Rectangle 2"/>
          <p:cNvSpPr/>
          <p:nvPr/>
        </p:nvSpPr>
        <p:spPr>
          <a:xfrm>
            <a:off x="1552680" y="6170760"/>
            <a:ext cx="6000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沟通与比较：两种方法有什么相同和不同之处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47" name="图片 23558" descr="48"/>
          <p:cNvPicPr/>
          <p:nvPr/>
        </p:nvPicPr>
        <p:blipFill>
          <a:blip r:embed="rId2"/>
          <a:stretch/>
        </p:blipFill>
        <p:spPr>
          <a:xfrm>
            <a:off x="3995640" y="1341360"/>
            <a:ext cx="3405240" cy="1978200"/>
          </a:xfrm>
          <a:prstGeom prst="rect">
            <a:avLst/>
          </a:prstGeom>
          <a:ln w="0">
            <a:noFill/>
          </a:ln>
        </p:spPr>
      </p:pic>
      <p:sp>
        <p:nvSpPr>
          <p:cNvPr id="1548" name="文本框 23559"/>
          <p:cNvSpPr/>
          <p:nvPr/>
        </p:nvSpPr>
        <p:spPr>
          <a:xfrm>
            <a:off x="1193760" y="3198960"/>
            <a:ext cx="3888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方法一：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总份数：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②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每份是：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00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L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③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浓缩液有：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L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④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水有：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00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L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49" name="组合 23560"/>
          <p:cNvGrpSpPr/>
          <p:nvPr/>
        </p:nvGrpSpPr>
        <p:grpSpPr>
          <a:xfrm>
            <a:off x="4927680" y="3213000"/>
            <a:ext cx="4319640" cy="1891440"/>
            <a:chOff x="4927680" y="3213000"/>
            <a:chExt cx="4319640" cy="1891440"/>
          </a:xfrm>
        </p:grpSpPr>
        <p:sp>
          <p:nvSpPr>
            <p:cNvPr id="1550" name="文本框 23561"/>
            <p:cNvSpPr/>
            <p:nvPr/>
          </p:nvSpPr>
          <p:spPr>
            <a:xfrm>
              <a:off x="4927680" y="3213000"/>
              <a:ext cx="4319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方法二：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① 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总份数：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5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② 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浓缩液有：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500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00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mL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③ 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水有：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00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00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mL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51" name="组合 23562"/>
            <p:cNvGrpSpPr/>
            <p:nvPr/>
          </p:nvGrpSpPr>
          <p:grpSpPr>
            <a:xfrm>
              <a:off x="7039080" y="3957840"/>
              <a:ext cx="530280" cy="745200"/>
              <a:chOff x="7039080" y="3957840"/>
              <a:chExt cx="530280" cy="745200"/>
            </a:xfrm>
          </p:grpSpPr>
          <p:sp>
            <p:nvSpPr>
              <p:cNvPr id="1552" name="文本框 23563"/>
              <p:cNvSpPr/>
              <p:nvPr/>
            </p:nvSpPr>
            <p:spPr>
              <a:xfrm>
                <a:off x="7064280" y="428004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3" name="文本框 23564"/>
              <p:cNvSpPr/>
              <p:nvPr/>
            </p:nvSpPr>
            <p:spPr>
              <a:xfrm>
                <a:off x="7039080" y="39578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4" name="直接连接符 23565"/>
              <p:cNvSpPr/>
              <p:nvPr/>
            </p:nvSpPr>
            <p:spPr>
              <a:xfrm>
                <a:off x="7083360" y="434340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55" name="组合 23566"/>
            <p:cNvGrpSpPr/>
            <p:nvPr/>
          </p:nvGrpSpPr>
          <p:grpSpPr>
            <a:xfrm>
              <a:off x="6618240" y="4373640"/>
              <a:ext cx="504720" cy="730800"/>
              <a:chOff x="6618240" y="4373640"/>
              <a:chExt cx="504720" cy="730800"/>
            </a:xfrm>
          </p:grpSpPr>
          <p:sp>
            <p:nvSpPr>
              <p:cNvPr id="1556" name="文本框 23567"/>
              <p:cNvSpPr/>
              <p:nvPr/>
            </p:nvSpPr>
            <p:spPr>
              <a:xfrm>
                <a:off x="6618240" y="46814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7" name="文本框 23568"/>
              <p:cNvSpPr/>
              <p:nvPr/>
            </p:nvSpPr>
            <p:spPr>
              <a:xfrm>
                <a:off x="6621480" y="43736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8" name="直接连接符 23569"/>
              <p:cNvSpPr/>
              <p:nvPr/>
            </p:nvSpPr>
            <p:spPr>
              <a:xfrm>
                <a:off x="6656400" y="474516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59" name="Rectangle 2"/>
          <p:cNvSpPr/>
          <p:nvPr/>
        </p:nvSpPr>
        <p:spPr>
          <a:xfrm>
            <a:off x="611280" y="1465200"/>
            <a:ext cx="51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2"/>
          <p:cNvSpPr/>
          <p:nvPr/>
        </p:nvSpPr>
        <p:spPr>
          <a:xfrm>
            <a:off x="611280" y="1465200"/>
            <a:ext cx="51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回顾与反思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77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创设情境，导入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2"/>
          <p:cNvSpPr/>
          <p:nvPr/>
        </p:nvSpPr>
        <p:spPr>
          <a:xfrm>
            <a:off x="1530360" y="440856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如何检验解答是否正确呢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3" name="Rectangle 2"/>
          <p:cNvSpPr/>
          <p:nvPr/>
        </p:nvSpPr>
        <p:spPr>
          <a:xfrm>
            <a:off x="2298600" y="4726080"/>
            <a:ext cx="3283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需要检验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浓缩液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水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0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L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浓缩液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水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4" name="文本框 24581"/>
          <p:cNvSpPr/>
          <p:nvPr/>
        </p:nvSpPr>
        <p:spPr>
          <a:xfrm>
            <a:off x="1116000" y="2305080"/>
            <a:ext cx="38876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方法一：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总份数：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②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每份是：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00÷5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＝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L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③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浓缩液有：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L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④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水有：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00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L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65" name="组合 24582"/>
          <p:cNvGrpSpPr/>
          <p:nvPr/>
        </p:nvGrpSpPr>
        <p:grpSpPr>
          <a:xfrm>
            <a:off x="4927680" y="2295360"/>
            <a:ext cx="4319640" cy="1891440"/>
            <a:chOff x="4927680" y="2295360"/>
            <a:chExt cx="4319640" cy="1891440"/>
          </a:xfrm>
        </p:grpSpPr>
        <p:sp>
          <p:nvSpPr>
            <p:cNvPr id="1566" name="文本框 24583"/>
            <p:cNvSpPr/>
            <p:nvPr/>
          </p:nvSpPr>
          <p:spPr>
            <a:xfrm>
              <a:off x="4927680" y="2295360"/>
              <a:ext cx="4319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方法二：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① 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总份数：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5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② 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浓缩液有：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500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00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mL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③ 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水有：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00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00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mL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67" name="组合 24584"/>
            <p:cNvGrpSpPr/>
            <p:nvPr/>
          </p:nvGrpSpPr>
          <p:grpSpPr>
            <a:xfrm>
              <a:off x="7039080" y="3040200"/>
              <a:ext cx="530280" cy="745200"/>
              <a:chOff x="7039080" y="3040200"/>
              <a:chExt cx="530280" cy="745200"/>
            </a:xfrm>
          </p:grpSpPr>
          <p:sp>
            <p:nvSpPr>
              <p:cNvPr id="1568" name="文本框 24585"/>
              <p:cNvSpPr/>
              <p:nvPr/>
            </p:nvSpPr>
            <p:spPr>
              <a:xfrm>
                <a:off x="7064280" y="336240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9" name="文本框 24586"/>
              <p:cNvSpPr/>
              <p:nvPr/>
            </p:nvSpPr>
            <p:spPr>
              <a:xfrm>
                <a:off x="7039080" y="30402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0" name="直接连接符 24587"/>
              <p:cNvSpPr/>
              <p:nvPr/>
            </p:nvSpPr>
            <p:spPr>
              <a:xfrm>
                <a:off x="7083360" y="342576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71" name="组合 24588"/>
            <p:cNvGrpSpPr/>
            <p:nvPr/>
          </p:nvGrpSpPr>
          <p:grpSpPr>
            <a:xfrm>
              <a:off x="6618240" y="3456000"/>
              <a:ext cx="504720" cy="730800"/>
              <a:chOff x="6618240" y="3456000"/>
              <a:chExt cx="504720" cy="730800"/>
            </a:xfrm>
          </p:grpSpPr>
          <p:sp>
            <p:nvSpPr>
              <p:cNvPr id="1572" name="文本框 24589"/>
              <p:cNvSpPr/>
              <p:nvPr/>
            </p:nvSpPr>
            <p:spPr>
              <a:xfrm>
                <a:off x="6618240" y="37638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3" name="文本框 24590"/>
              <p:cNvSpPr/>
              <p:nvPr/>
            </p:nvSpPr>
            <p:spPr>
              <a:xfrm>
                <a:off x="6621480" y="3456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4" name="直接连接符 24591"/>
              <p:cNvSpPr/>
              <p:nvPr/>
            </p:nvSpPr>
            <p:spPr>
              <a:xfrm>
                <a:off x="6656400" y="382752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巩固应用，拓展思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2"/>
          <p:cNvSpPr/>
          <p:nvPr/>
        </p:nvSpPr>
        <p:spPr>
          <a:xfrm>
            <a:off x="755640" y="1413000"/>
            <a:ext cx="7921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某妇产科医院上月新生婴儿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3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名，男女婴儿人数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之比是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1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︰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上月新生男、女婴儿各有多少人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7" name="TextBox 13"/>
          <p:cNvSpPr/>
          <p:nvPr/>
        </p:nvSpPr>
        <p:spPr>
          <a:xfrm>
            <a:off x="1189080" y="509436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答：上月新生男婴儿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5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人，女婴儿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5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人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8" name="Rectangle 2"/>
          <p:cNvSpPr/>
          <p:nvPr/>
        </p:nvSpPr>
        <p:spPr>
          <a:xfrm>
            <a:off x="971640" y="5857920"/>
            <a:ext cx="7388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观察上面两道题，说一说按比例分配问题有什么特点。 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解决此类问题时要注意什么？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9" name="文本框 25605"/>
          <p:cNvSpPr/>
          <p:nvPr/>
        </p:nvSpPr>
        <p:spPr>
          <a:xfrm>
            <a:off x="1440000" y="2781360"/>
            <a:ext cx="2665440" cy="192276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方法一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5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5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0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0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0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人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5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5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人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5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5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人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80" name="组合 25606"/>
          <p:cNvGrpSpPr/>
          <p:nvPr/>
        </p:nvGrpSpPr>
        <p:grpSpPr>
          <a:xfrm>
            <a:off x="4392720" y="2568600"/>
            <a:ext cx="3454200" cy="2518200"/>
            <a:chOff x="4392720" y="2568600"/>
            <a:chExt cx="3454200" cy="2518200"/>
          </a:xfrm>
        </p:grpSpPr>
        <p:sp>
          <p:nvSpPr>
            <p:cNvPr id="1581" name="文本框 25607"/>
            <p:cNvSpPr/>
            <p:nvPr/>
          </p:nvSpPr>
          <p:spPr>
            <a:xfrm>
              <a:off x="4464000" y="2568600"/>
              <a:ext cx="3382920" cy="23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方法二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3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53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人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3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5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人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82" name="组合 25608"/>
            <p:cNvGrpSpPr/>
            <p:nvPr/>
          </p:nvGrpSpPr>
          <p:grpSpPr>
            <a:xfrm>
              <a:off x="5102280" y="3654360"/>
              <a:ext cx="847800" cy="815040"/>
              <a:chOff x="5102280" y="3654360"/>
              <a:chExt cx="847800" cy="815040"/>
            </a:xfrm>
          </p:grpSpPr>
          <p:sp>
            <p:nvSpPr>
              <p:cNvPr id="1583" name="文本框 25609"/>
              <p:cNvSpPr/>
              <p:nvPr/>
            </p:nvSpPr>
            <p:spPr>
              <a:xfrm>
                <a:off x="5102280" y="4009680"/>
                <a:ext cx="7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4" name="文本框 25610"/>
              <p:cNvSpPr/>
              <p:nvPr/>
            </p:nvSpPr>
            <p:spPr>
              <a:xfrm>
                <a:off x="5193000" y="3654360"/>
                <a:ext cx="75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5" name="直接连接符 25611"/>
              <p:cNvSpPr/>
              <p:nvPr/>
            </p:nvSpPr>
            <p:spPr>
              <a:xfrm>
                <a:off x="5237280" y="4072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86" name="组合 25612"/>
            <p:cNvGrpSpPr/>
            <p:nvPr/>
          </p:nvGrpSpPr>
          <p:grpSpPr>
            <a:xfrm>
              <a:off x="5094360" y="4271760"/>
              <a:ext cx="847800" cy="815040"/>
              <a:chOff x="5094360" y="4271760"/>
              <a:chExt cx="847800" cy="815040"/>
            </a:xfrm>
          </p:grpSpPr>
          <p:sp>
            <p:nvSpPr>
              <p:cNvPr id="1587" name="文本框 25613"/>
              <p:cNvSpPr/>
              <p:nvPr/>
            </p:nvSpPr>
            <p:spPr>
              <a:xfrm>
                <a:off x="5094360" y="4627080"/>
                <a:ext cx="7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8" name="文本框 25614"/>
              <p:cNvSpPr/>
              <p:nvPr/>
            </p:nvSpPr>
            <p:spPr>
              <a:xfrm>
                <a:off x="5185080" y="4271760"/>
                <a:ext cx="75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9" name="直接连接符 25615"/>
              <p:cNvSpPr/>
              <p:nvPr/>
            </p:nvSpPr>
            <p:spPr>
              <a:xfrm>
                <a:off x="5229360" y="46904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90" name="矩形 25616"/>
            <p:cNvSpPr/>
            <p:nvPr/>
          </p:nvSpPr>
          <p:spPr>
            <a:xfrm>
              <a:off x="4392720" y="2784240"/>
              <a:ext cx="2879640" cy="22330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2"/>
          <p:cNvSpPr/>
          <p:nvPr/>
        </p:nvSpPr>
        <p:spPr>
          <a:xfrm>
            <a:off x="755640" y="1557360"/>
            <a:ext cx="8251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有一个长方形的花坛，周长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米，长与宽的比是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∶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个花坛的长和宽分别是多少米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巩固应用，拓展思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3" name="图片 26627" descr="u4jx03_9"/>
          <p:cNvPicPr/>
          <p:nvPr/>
        </p:nvPicPr>
        <p:blipFill>
          <a:blip r:embed="rId1"/>
          <a:stretch/>
        </p:blipFill>
        <p:spPr>
          <a:xfrm>
            <a:off x="2124000" y="242100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7:30Z</dcterms:modified>
  <cp:revision>3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